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wera" initials="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8-06-14T09:20:43.542000000" idx="1">
    <p:pos x="5193" y="92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748-11F5-4E2A-961A-7236F398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D46-8F9F-4AB6-92A6-854B7E6A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5E9-00FC-47AB-A39A-F5AF533D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4FE-5D09-4C63-A02B-BD32FE35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A999-97D2-4DCB-BABF-0EEC3A57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3DF3-F2B8-4558-9449-5619266C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33C0-4F14-4CB4-B279-F9CB867E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9D18-199E-47DE-B002-75F9DA82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3963-CBBF-4C66-86FB-4312DFAC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CCD0-B806-4D81-A492-01697171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868B-7F66-4A76-A837-0000D925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132-70C6-41C3-AA78-382D399D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1DEF-1087-426A-8B50-BAC689FE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2108-814E-45E6-8842-F736BF77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2939-F842-4ED0-BB67-D482CEE5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794F-E6CD-4420-BDC5-D118B795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9417-7AAC-4F4A-988A-23B83D4B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823-407E-46B1-819C-C1523CE5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A67-A589-4A20-849E-7BDF48A2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633-1B26-4D81-B5A1-C89A92C8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01C-522B-4830-8A3A-D8B11A51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7CA-B678-4103-9EC6-D7B181F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BD6-3349-4C04-9C92-99B09FCD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2CA-4984-4984-9E65-782ADF95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5416-6235-4C90-9975-A97F5AEC325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876C-F816-464E-9B91-8648D0B0F9C0}" type="slidenum">
              <a:rPr b="0" lang="cs-CZ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ff"/>
                </a:solidFill>
                <a:latin typeface="Arial"/>
              </a:rPr>
              <a:t>Obnova koupaliště města Letohrad 2018-2019 – IV. ET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Obrázek 4" descr=""/>
          <p:cNvPicPr/>
          <p:nvPr/>
        </p:nvPicPr>
        <p:blipFill>
          <a:blip r:embed="rId1"/>
          <a:stretch/>
        </p:blipFill>
        <p:spPr>
          <a:xfrm>
            <a:off x="306360" y="1844640"/>
            <a:ext cx="8531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00ff"/>
                </a:solidFill>
                <a:latin typeface="Arial"/>
              </a:rPr>
              <a:t>ETAPA IV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06200" y="984240"/>
            <a:ext cx="89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4f4"/>
                </a:solidFill>
                <a:latin typeface="Arial"/>
              </a:rPr>
              <a:t>KOMPLETNÍ MODERNIZACE VELKÉHO PLAVECKÉHO BAZÉNU, NOVÁ TECHNOLOGICKÁ ČÁST, NOVÉ ROZVODY KANALIZACE, VODY A ELEKTRO, ZPEVNĚNÉ PLOCHY, BAZÉNOVÁ TECHNOLOGIE VČ. MĚŘENÍ A REGULA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Obrázek 6" descr=""/>
          <p:cNvPicPr/>
          <p:nvPr/>
        </p:nvPicPr>
        <p:blipFill>
          <a:blip r:embed="rId1"/>
          <a:stretch/>
        </p:blipFill>
        <p:spPr>
          <a:xfrm>
            <a:off x="1403280" y="1960560"/>
            <a:ext cx="57358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ff"/>
                </a:solidFill>
                <a:latin typeface="Arial"/>
              </a:rPr>
              <a:t>SO 01 + 02 – STAVEBNÍ PRÁCE KOUPALIŠTĚ  + BRODÍTK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972800" y="100800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Arial"/>
              </a:rPr>
              <a:t>PŘEDPOKLÁDANÉ NÁKLADY 6,4 mil. BEZ DP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0160" y="239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Obrázek 6" descr=""/>
          <p:cNvPicPr/>
          <p:nvPr/>
        </p:nvPicPr>
        <p:blipFill>
          <a:blip r:embed="rId1"/>
          <a:stretch/>
        </p:blipFill>
        <p:spPr>
          <a:xfrm>
            <a:off x="162000" y="2131920"/>
            <a:ext cx="882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ff"/>
                </a:solidFill>
                <a:latin typeface="Arial"/>
              </a:rPr>
              <a:t>SO 03 – STAVEBNÍ PRÁCE TECHNOLOGICKÁ ČÁ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006640" y="1042920"/>
            <a:ext cx="51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Arial"/>
              </a:rPr>
              <a:t>PŘEDPOKLÁDANÉ NÁKLADY 3,6 mil.BEZ DP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69800" y="3770280"/>
            <a:ext cx="25542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Obrázek 3" descr=""/>
          <p:cNvPicPr/>
          <p:nvPr/>
        </p:nvPicPr>
        <p:blipFill>
          <a:blip r:embed="rId1"/>
          <a:stretch/>
        </p:blipFill>
        <p:spPr>
          <a:xfrm>
            <a:off x="281160" y="1547640"/>
            <a:ext cx="4962240" cy="3365640"/>
          </a:xfrm>
          <a:prstGeom prst="rect">
            <a:avLst/>
          </a:prstGeom>
          <a:ln w="0">
            <a:noFill/>
          </a:ln>
        </p:spPr>
      </p:pic>
      <p:pic>
        <p:nvPicPr>
          <p:cNvPr id="226" name="Obrázek 5" descr=""/>
          <p:cNvPicPr/>
          <p:nvPr/>
        </p:nvPicPr>
        <p:blipFill>
          <a:blip r:embed="rId2"/>
          <a:stretch/>
        </p:blipFill>
        <p:spPr>
          <a:xfrm>
            <a:off x="5148360" y="3273480"/>
            <a:ext cx="3714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ff"/>
                </a:solidFill>
                <a:latin typeface="Arial"/>
              </a:rPr>
              <a:t>SO 04 – KOMUNIKACE A TERÉNNÍ ÚPRAV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004840" y="1008000"/>
            <a:ext cx="51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Arial"/>
              </a:rPr>
              <a:t>PŘEDPOKLÁDANÉ NÁKLADY 0,8 mil.BEZ DP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69800" y="3770280"/>
            <a:ext cx="25542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Obrázek 4" descr=""/>
          <p:cNvPicPr/>
          <p:nvPr/>
        </p:nvPicPr>
        <p:blipFill>
          <a:blip r:embed="rId1"/>
          <a:stretch/>
        </p:blipFill>
        <p:spPr>
          <a:xfrm>
            <a:off x="301680" y="1765440"/>
            <a:ext cx="854064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-907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ff"/>
                </a:solidFill>
                <a:latin typeface="Arial"/>
              </a:rPr>
              <a:t>SO 5 – KANALIZACE A VODOVO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878480" y="625320"/>
            <a:ext cx="538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Arial"/>
              </a:rPr>
              <a:t>PŘEDPOKLÁDANÉ NÁKLADY 2,675 mil.BEZ DP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69800" y="3770280"/>
            <a:ext cx="25542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Obrázek 3" descr=""/>
          <p:cNvPicPr/>
          <p:nvPr/>
        </p:nvPicPr>
        <p:blipFill>
          <a:blip r:embed="rId1"/>
          <a:stretch/>
        </p:blipFill>
        <p:spPr>
          <a:xfrm>
            <a:off x="225360" y="1989000"/>
            <a:ext cx="8693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rázek 9" descr=""/>
          <p:cNvPicPr/>
          <p:nvPr/>
        </p:nvPicPr>
        <p:blipFill>
          <a:blip r:embed="rId1"/>
          <a:stretch/>
        </p:blipFill>
        <p:spPr>
          <a:xfrm>
            <a:off x="411120" y="1515960"/>
            <a:ext cx="8344080" cy="51087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36648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ff"/>
                </a:solidFill>
                <a:latin typeface="Arial"/>
              </a:rPr>
              <a:t>PS 01 – BAZÉNOVÁ TECHNOLOGIE VČ. ATRAKCÍ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941840" y="1054080"/>
            <a:ext cx="52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Arial"/>
              </a:rPr>
              <a:t>PŘEDPOKLÁDANÉ NÁKLADY 10,1 mil.BEZ DP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Šipka: dolů 4"/>
          <p:cNvSpPr/>
          <p:nvPr/>
        </p:nvSpPr>
        <p:spPr>
          <a:xfrm rot="20574000">
            <a:off x="1017360" y="2316240"/>
            <a:ext cx="280800" cy="1512720"/>
          </a:xfrm>
          <a:prstGeom prst="downArrow">
            <a:avLst>
              <a:gd name="adj1" fmla="val 44259"/>
              <a:gd name="adj2" fmla="val 50031"/>
            </a:avLst>
          </a:prstGeom>
          <a:solidFill>
            <a:srgbClr val="ff0000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ovéPole 5"/>
          <p:cNvSpPr/>
          <p:nvPr/>
        </p:nvSpPr>
        <p:spPr>
          <a:xfrm>
            <a:off x="352440" y="1533600"/>
            <a:ext cx="31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KLUZAVKA – dvě dráh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šíře 3 m délka 12 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Šipka: nahoru 6"/>
          <p:cNvSpPr/>
          <p:nvPr/>
        </p:nvSpPr>
        <p:spPr>
          <a:xfrm rot="12775800">
            <a:off x="4198680" y="2306520"/>
            <a:ext cx="244440" cy="130680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ovéPole 7"/>
          <p:cNvSpPr/>
          <p:nvPr/>
        </p:nvSpPr>
        <p:spPr>
          <a:xfrm>
            <a:off x="4770360" y="2125800"/>
            <a:ext cx="27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LEZECKÁ SÍŤ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Šipka: nahoru 10"/>
          <p:cNvSpPr/>
          <p:nvPr/>
        </p:nvSpPr>
        <p:spPr>
          <a:xfrm rot="19837800">
            <a:off x="3133800" y="3906720"/>
            <a:ext cx="216000" cy="1224000"/>
          </a:xfrm>
          <a:prstGeom prst="upArrow">
            <a:avLst>
              <a:gd name="adj1" fmla="val 50000"/>
              <a:gd name="adj2" fmla="val 49977"/>
            </a:avLst>
          </a:prstGeom>
          <a:solidFill>
            <a:srgbClr val="ff0000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ovéPole 11"/>
          <p:cNvSpPr/>
          <p:nvPr/>
        </p:nvSpPr>
        <p:spPr>
          <a:xfrm>
            <a:off x="3635280" y="47959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YDROMASÁŽNÍ TRYSKY 4 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rázek 4" descr=""/>
          <p:cNvPicPr/>
          <p:nvPr/>
        </p:nvPicPr>
        <p:blipFill>
          <a:blip r:embed="rId1"/>
          <a:stretch/>
        </p:blipFill>
        <p:spPr>
          <a:xfrm>
            <a:off x="5435640" y="4336920"/>
            <a:ext cx="3529080" cy="2413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36648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00ff"/>
                </a:solidFill>
                <a:latin typeface="Arial"/>
              </a:rPr>
              <a:t>ETAPA IV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54600" y="1085760"/>
            <a:ext cx="649476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1 – STAVEBNÍ PRÁCE KOUPALIŠTĚ – 6,15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2 – BRODÍTKA – 0,2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3 – OBJEKT TECHNOLOGIE – 3,6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4 – KOMUNIKACE A TERÉNNÍ ÚPRAVY – 0,8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5 – KANALIZACE A VODOVOD – 2,675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6 – ELEKTROINSTALACE VČ. PŘÍPOJKY – 0,77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7 – OPLOCENÍ VNITŘNÍ – 0,06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8 – PROVIZORNÍ KOMUNIKACE – 0,3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PS1 – BAZÉNOVÁ TECHNOLOGIE – 10,1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VEDLEJŠÍ ROZPOČTOVÉ NÁKLADY – 0,27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eaeaea"/>
                </a:solidFill>
                <a:uFillTx/>
                <a:latin typeface="Arial"/>
              </a:rPr>
              <a:t>CELKEM NÁKLADY -  24 948 768,-  BEZ DP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4920" y="5677920"/>
            <a:ext cx="2554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Obrázek 6" descr=""/>
          <p:cNvPicPr/>
          <p:nvPr/>
        </p:nvPicPr>
        <p:blipFill>
          <a:blip r:embed="rId2"/>
          <a:stretch/>
        </p:blipFill>
        <p:spPr>
          <a:xfrm>
            <a:off x="322200" y="4336920"/>
            <a:ext cx="461016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36648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00ff"/>
                </a:solidFill>
                <a:latin typeface="Arial"/>
              </a:rPr>
              <a:t>DALŠÍ CÍL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511440" y="10857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324000" y="1352520"/>
            <a:ext cx="84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ada města zadala odboru majetku a investic MěÚ úkol připravit projektovou dokumentaci na revitalizaci zeleně v areálu koupaliště vč. terénních úprav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ozpracovává se záměr přestavby současného parkoviště před koupalištěm na parkoviště se zatravňovacími dlaždicemi (vodopropustné). Město se bude na rekonstrukci parkoviště ucházet o dotaci od SFŽP  (50% uznatelných nákladů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Obrázek 6" descr=""/>
          <p:cNvPicPr/>
          <p:nvPr/>
        </p:nvPicPr>
        <p:blipFill>
          <a:blip r:embed="rId1"/>
          <a:stretch/>
        </p:blipFill>
        <p:spPr>
          <a:xfrm>
            <a:off x="1508040" y="4149720"/>
            <a:ext cx="61246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07:58:13Z</dcterms:created>
  <dc:creator>MU</dc:creator>
  <dc:description/>
  <dc:language>en-US</dc:language>
  <cp:lastModifiedBy>pawera</cp:lastModifiedBy>
  <dcterms:modified xsi:type="dcterms:W3CDTF">2018-06-19T10:31:13Z</dcterms:modified>
  <cp:revision>28</cp:revision>
  <dc:subject/>
  <dc:title>Obnova koupaliště  města Letohrad</dc:title>
</cp:coreProperties>
</file>