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wera" initials="p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8-06-14T09:20:43.542000000" idx="1">
    <p:pos x="5193" y="92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47B-6D40-4706-A02B-674C493B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0C6-0D6C-4973-977D-8CB34930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513-0B0B-44F9-9C32-B3D12A8D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9661-C780-4F4D-972C-B4110723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2296-80B3-4A3F-A18F-E7B2EAA4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4E42-D8D2-407C-9E02-98C45E2D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43BF-D258-4016-AFDC-6D1F89E3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2ABD-63DA-48CA-B9B4-2917F597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AA93-DE3F-4ADF-90A5-6B3FDA7D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6778-61D3-4AB0-9B0F-007EC5E4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DF18-1F91-4EC4-A4A1-49044D04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621-0B30-4E74-8846-9835DBA7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347F-D81B-464A-A67C-7008258E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DBCC-0E6C-40F2-AAD7-6793AE40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76D5-E004-4087-BB3D-3E54AD83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4E43-C0E5-4702-9C7E-59CB9779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2123-54F1-4A6D-9C57-E05A3CB3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2BA-E4FC-4A12-9464-5E1B6C15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115-C528-4E26-856F-2F46BB5A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AF0-FC2B-4B6B-8CEE-78CA1E43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1F3-9701-4C5B-9071-E7E93A43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7DC-EC80-410B-961D-8269C6E1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3884-DBA9-400B-8C8F-36D66EE2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23A-6E7E-48E3-8C58-0B3D4254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3B09-1508-4AE3-91B7-AB3E1432CBC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75D5-F1AE-4DD5-A578-14F17BD7BC40}" type="slidenum">
              <a:rPr b="0" lang="cs-CZ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85816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ff"/>
                </a:solidFill>
                <a:latin typeface="Arial"/>
              </a:rPr>
              <a:t>Obnova koupaliště města Letohrad 2018-2019 – IV. ET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Obrázek 4" descr=""/>
          <p:cNvPicPr/>
          <p:nvPr/>
        </p:nvPicPr>
        <p:blipFill>
          <a:blip r:embed="rId1"/>
          <a:stretch/>
        </p:blipFill>
        <p:spPr>
          <a:xfrm>
            <a:off x="306360" y="1844640"/>
            <a:ext cx="8531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00ff"/>
                </a:solidFill>
                <a:latin typeface="Arial"/>
              </a:rPr>
              <a:t>ETAPA IV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06200" y="984240"/>
            <a:ext cx="892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4f4f4"/>
                </a:solidFill>
                <a:latin typeface="Arial"/>
              </a:rPr>
              <a:t>KOMPLETNÍ MODERNIZACE VELKÉHO PLAVECKÉHO BAZÉNU, NOVÁ TECHNOLOGICKÁ ČÁST, NOVÉ ROZVODY KANALIZACE, VODY A ELEKTRO, ZPEVNĚNÉ PLOCHY, BAZÉNOVÁ TECHNOLOGIE VČ. MĚŘENÍ A REGULA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Obrázek 6" descr=""/>
          <p:cNvPicPr/>
          <p:nvPr/>
        </p:nvPicPr>
        <p:blipFill>
          <a:blip r:embed="rId1"/>
          <a:stretch/>
        </p:blipFill>
        <p:spPr>
          <a:xfrm>
            <a:off x="1403280" y="1960560"/>
            <a:ext cx="57358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ff"/>
                </a:solidFill>
                <a:latin typeface="Arial"/>
              </a:rPr>
              <a:t>SO 01 + 02 – STAVEBNÍ PRÁCE KOUPALIŠTĚ  + BRODÍTK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1972800" y="100800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Arial"/>
              </a:rPr>
              <a:t>PŘEDPOKLÁDANÉ NÁKLADY 6,4 mil. BEZ DP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0160" y="2397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Obrázek 6" descr=""/>
          <p:cNvPicPr/>
          <p:nvPr/>
        </p:nvPicPr>
        <p:blipFill>
          <a:blip r:embed="rId1"/>
          <a:stretch/>
        </p:blipFill>
        <p:spPr>
          <a:xfrm>
            <a:off x="162000" y="2131920"/>
            <a:ext cx="8820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ff"/>
                </a:solidFill>
                <a:latin typeface="Arial"/>
              </a:rPr>
              <a:t>SO 03 – STAVEBNÍ PRÁCE TECHNOLOGICKÁ ČÁS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2006640" y="1042920"/>
            <a:ext cx="51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Arial"/>
              </a:rPr>
              <a:t>PŘEDPOKLÁDANÉ NÁKLADY 3,6 mil.BEZ DP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69800" y="3770280"/>
            <a:ext cx="25542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Obrázek 3" descr=""/>
          <p:cNvPicPr/>
          <p:nvPr/>
        </p:nvPicPr>
        <p:blipFill>
          <a:blip r:embed="rId1"/>
          <a:stretch/>
        </p:blipFill>
        <p:spPr>
          <a:xfrm>
            <a:off x="281160" y="1547640"/>
            <a:ext cx="4962240" cy="3365640"/>
          </a:xfrm>
          <a:prstGeom prst="rect">
            <a:avLst/>
          </a:prstGeom>
          <a:ln w="0">
            <a:noFill/>
          </a:ln>
        </p:spPr>
      </p:pic>
      <p:pic>
        <p:nvPicPr>
          <p:cNvPr id="226" name="Obrázek 5" descr=""/>
          <p:cNvPicPr/>
          <p:nvPr/>
        </p:nvPicPr>
        <p:blipFill>
          <a:blip r:embed="rId2"/>
          <a:stretch/>
        </p:blipFill>
        <p:spPr>
          <a:xfrm>
            <a:off x="5148360" y="3273480"/>
            <a:ext cx="37144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ff"/>
                </a:solidFill>
                <a:latin typeface="Arial"/>
              </a:rPr>
              <a:t>SO 04 – KOMUNIKACE A TERÉNNÍ ÚPRAV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004840" y="1008000"/>
            <a:ext cx="513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Arial"/>
              </a:rPr>
              <a:t>PŘEDPOKLÁDANÉ NÁKLADY 0,8 mil.BEZ DP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69800" y="3770280"/>
            <a:ext cx="25542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Obrázek 4" descr=""/>
          <p:cNvPicPr/>
          <p:nvPr/>
        </p:nvPicPr>
        <p:blipFill>
          <a:blip r:embed="rId1"/>
          <a:stretch/>
        </p:blipFill>
        <p:spPr>
          <a:xfrm>
            <a:off x="301680" y="1765440"/>
            <a:ext cx="854064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-907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ff"/>
                </a:solidFill>
                <a:latin typeface="Arial"/>
              </a:rPr>
              <a:t>SO 5 – KANALIZACE A VODOVO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878480" y="625320"/>
            <a:ext cx="538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Arial"/>
              </a:rPr>
              <a:t>PŘEDPOKLÁDANÉ NÁKLADY 2,675 mil.BEZ DP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69800" y="3770280"/>
            <a:ext cx="25542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Obrázek 3" descr=""/>
          <p:cNvPicPr/>
          <p:nvPr/>
        </p:nvPicPr>
        <p:blipFill>
          <a:blip r:embed="rId1"/>
          <a:stretch/>
        </p:blipFill>
        <p:spPr>
          <a:xfrm>
            <a:off x="225360" y="1989000"/>
            <a:ext cx="8693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Obrázek 9" descr=""/>
          <p:cNvPicPr/>
          <p:nvPr/>
        </p:nvPicPr>
        <p:blipFill>
          <a:blip r:embed="rId1"/>
          <a:stretch/>
        </p:blipFill>
        <p:spPr>
          <a:xfrm>
            <a:off x="411120" y="1515960"/>
            <a:ext cx="8344080" cy="51087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36648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ff"/>
                </a:solidFill>
                <a:latin typeface="Arial"/>
              </a:rPr>
              <a:t>PS 01 – BAZÉNOVÁ TECHNOLOGIE VČ. ATRAKCÍ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941840" y="1054080"/>
            <a:ext cx="52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aeaea"/>
                </a:solidFill>
                <a:latin typeface="Arial"/>
              </a:rPr>
              <a:t>PŘEDPOKLÁDANÉ NÁKLADY 10,1 mil.BEZ DP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Šipka: dolů 4"/>
          <p:cNvSpPr/>
          <p:nvPr/>
        </p:nvSpPr>
        <p:spPr>
          <a:xfrm rot="20574000">
            <a:off x="1017360" y="2316240"/>
            <a:ext cx="280800" cy="1512720"/>
          </a:xfrm>
          <a:prstGeom prst="downArrow">
            <a:avLst>
              <a:gd name="adj1" fmla="val 44259"/>
              <a:gd name="adj2" fmla="val 50031"/>
            </a:avLst>
          </a:prstGeom>
          <a:solidFill>
            <a:srgbClr val="ff0000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TextovéPole 5"/>
          <p:cNvSpPr/>
          <p:nvPr/>
        </p:nvSpPr>
        <p:spPr>
          <a:xfrm>
            <a:off x="352440" y="1533600"/>
            <a:ext cx="31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KLUZAVKA – dvě dráh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šíře 3 m délka 12 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Šipka: nahoru 6"/>
          <p:cNvSpPr/>
          <p:nvPr/>
        </p:nvSpPr>
        <p:spPr>
          <a:xfrm rot="12775800">
            <a:off x="4198680" y="2306520"/>
            <a:ext cx="244440" cy="130680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ovéPole 7"/>
          <p:cNvSpPr/>
          <p:nvPr/>
        </p:nvSpPr>
        <p:spPr>
          <a:xfrm>
            <a:off x="4770360" y="2125800"/>
            <a:ext cx="27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LEZECKÁ SÍŤ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Šipka: nahoru 10"/>
          <p:cNvSpPr/>
          <p:nvPr/>
        </p:nvSpPr>
        <p:spPr>
          <a:xfrm rot="19837800">
            <a:off x="3133800" y="3906720"/>
            <a:ext cx="216000" cy="1224000"/>
          </a:xfrm>
          <a:prstGeom prst="upArrow">
            <a:avLst>
              <a:gd name="adj1" fmla="val 50000"/>
              <a:gd name="adj2" fmla="val 49977"/>
            </a:avLst>
          </a:prstGeom>
          <a:solidFill>
            <a:srgbClr val="ff0000"/>
          </a:solidFill>
          <a:ln w="12600">
            <a:solidFill>
              <a:srgbClr val="0095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TextovéPole 11"/>
          <p:cNvSpPr/>
          <p:nvPr/>
        </p:nvSpPr>
        <p:spPr>
          <a:xfrm>
            <a:off x="3635280" y="479592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HYDROMASÁŽNÍ TRYSKY 4 x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Obrázek 4" descr=""/>
          <p:cNvPicPr/>
          <p:nvPr/>
        </p:nvPicPr>
        <p:blipFill>
          <a:blip r:embed="rId1"/>
          <a:stretch/>
        </p:blipFill>
        <p:spPr>
          <a:xfrm>
            <a:off x="5435640" y="4336920"/>
            <a:ext cx="3529080" cy="2413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36648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00ff"/>
                </a:solidFill>
                <a:latin typeface="Arial"/>
              </a:rPr>
              <a:t>ETAPA IV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354600" y="1085760"/>
            <a:ext cx="649476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SO1 – STAVEBNÍ PRÁCE KOUPALIŠTĚ – 6,15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SO2 – BRODÍTKA – 0,2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SO3 – OBJEKT TECHNOLOGIE – 3,6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SO4 – KOMUNIKACE A TERÉNNÍ ÚPRAVY – 0,8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SO5 – KANALIZACE A VODOVOD – 2,675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SO6 – ELEKTROINSTALACE VČ. PŘÍPOJKY – 0,77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SO7 – OPLOCENÍ VNITŘNÍ – 0,06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SO8 – PROVIZORNÍ KOMUNIKACE – 0,3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PS1 – BAZÉNOVÁ TECHNOLOGIE – 10,1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eaeaea"/>
                </a:solidFill>
                <a:latin typeface="Arial"/>
              </a:rPr>
              <a:t>VEDLEJŠÍ ROZPOČTOVÉ NÁKLADY – 0,27 mil.BEZ DPH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eaeaea"/>
                </a:solidFill>
                <a:uFillTx/>
                <a:latin typeface="Arial"/>
              </a:rPr>
              <a:t>CELKEM NÁKLADY -  24 948 768,-  BEZ DP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4920" y="5677920"/>
            <a:ext cx="25542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Obrázek 6" descr=""/>
          <p:cNvPicPr/>
          <p:nvPr/>
        </p:nvPicPr>
        <p:blipFill>
          <a:blip r:embed="rId2"/>
          <a:stretch/>
        </p:blipFill>
        <p:spPr>
          <a:xfrm>
            <a:off x="322200" y="4336920"/>
            <a:ext cx="461016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36648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00ff"/>
                </a:solidFill>
                <a:latin typeface="Arial"/>
              </a:rPr>
              <a:t>DALŠÍ CÍL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511440" y="10857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324000" y="1352520"/>
            <a:ext cx="84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ada města zadala odboru majetku a investic MěÚ úkol připravit projektovou dokumentaci na revitalizaci zeleně v areálu koupaliště vč. terénních úprav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Arial"/>
              </a:rPr>
              <a:t>Rozpracovává se záměr přestavby současného parkoviště před koupalištěm na parkoviště se zatravňovacími dlaždicemi (vodopropustné). Město se bude na rekonstrukci parkoviště ucházet o dotaci od SFŽP  (50% uznatelných nákladů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Obrázek 6" descr=""/>
          <p:cNvPicPr/>
          <p:nvPr/>
        </p:nvPicPr>
        <p:blipFill>
          <a:blip r:embed="rId1"/>
          <a:stretch/>
        </p:blipFill>
        <p:spPr>
          <a:xfrm>
            <a:off x="1508040" y="4149720"/>
            <a:ext cx="61246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07:58:13Z</dcterms:created>
  <dc:creator>MU</dc:creator>
  <dc:description/>
  <dc:language>en-US</dc:language>
  <cp:lastModifiedBy>pawera</cp:lastModifiedBy>
  <dcterms:modified xsi:type="dcterms:W3CDTF">2018-06-19T10:31:13Z</dcterms:modified>
  <cp:revision>28</cp:revision>
  <dc:subject/>
  <dc:title>Obnova koupaliště  města Letohrad</dc:title>
</cp:coreProperties>
</file>