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2C8-659D-4380-ABE9-2180203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B33-A2F0-4E3E-9EAA-4887CAFA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0E7-46C1-42D7-96E7-F1C32E11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7E2-2F5E-4D69-A5F6-604B2276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67E-8DAF-4795-9A5E-A5154176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BC5-9768-4841-BC65-DC4256B6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BB9-F7BC-41DD-A09A-B21EB6C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54F-33FD-4205-86D2-480FA09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CCF-13A6-4A5F-A978-0BF5E86E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B6F-2CB6-47DC-B302-45E5ADC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202-3056-42CB-A1D9-8B6A5FD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C67-C8C3-473B-A85D-3EB580B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CED-2179-4DF2-A14F-8CDE7EBB26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petr.kozel@mestovsetin.cz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vedení systematické podpory procesu plánování sociálních služeb a péče sociálně potřebným na Středním Vsetínsku,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kokarlovicku a Hornolidečsku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4005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erační program Lidské zdroje a zaměstna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97 – Podpora vzdělávání a procesů v sociálních služb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3.1 Podpora sociální integrace a sociálních služe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.3 Sociální integrace a rovné příležit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04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rmonogra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395280" y="1557360"/>
          <a:ext cx="8497800" cy="4248000"/>
        </p:xfrm>
        <a:graphic>
          <a:graphicData uri="http://schemas.openxmlformats.org/drawingml/2006/table">
            <a:tbl>
              <a:tblPr/>
              <a:tblGrid>
                <a:gridCol w="431640"/>
                <a:gridCol w="6519960"/>
                <a:gridCol w="1546200"/>
              </a:tblGrid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voření struktury pracovních skupin a jejich pravidelné setká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2013 - 06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vzdělávacího cyklu pro účastníky procesu komunitního plánován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3 - 10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racování podkladu pro vytvoření střednědobého plánu rozvoje sociálních služeb a péče Vsetín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/2013 - 12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voření střednědobého plánu péče a katalogu jejich poskytovatelů na Vsetínsk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2014 - 10/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voření interaktivního informačního systému sociálních služeb a péč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2015 - 05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seminářů a konference k síťování sociálních služeb v rámci jednotlivých mikroregion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/2015 - 06/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počet a monitorovací indik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počet projektu: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č 2.454.400 Kč (100%ní financ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onitorovací indikáto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900000" y="2349360"/>
          <a:ext cx="7272360" cy="3616560"/>
        </p:xfrm>
        <a:graphic>
          <a:graphicData uri="http://schemas.openxmlformats.org/drawingml/2006/table">
            <a:tbl>
              <a:tblPr/>
              <a:tblGrid>
                <a:gridCol w="125640"/>
                <a:gridCol w="2828880"/>
                <a:gridCol w="784080"/>
                <a:gridCol w="797040"/>
                <a:gridCol w="2736720"/>
              </a:tblGrid>
              <a:tr h="281880">
                <a:tc grid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ovací indiká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chozí hodno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ovaná hodno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entář k 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791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 představuje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individuálních fyzických osob, které budou členy PS KP a zároveň se budou účastnit plánovaného akreditovaného vzdělávání.</a:t>
                      </a: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le pokynů je tedy nutné tuto hondnotu ponížit na 35 osob. Do hodnoty MI možno započítat i členy RT, splňují-li výše uvedené podmínky. Průměrný počet řadových členů jedné pracovní skupiny je 6 osob + 1 manažer. V celkovém počtu 5 PS činí tedy hodnota indikátoru 35 fyzických osob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e pravidel a definic partnerství je projekt realizován pouze žadatelem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- celk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cházíme -li z předpokladu, že každý člen pracovní skupiny se bude účastnit 3 vzdělávacích bloků (tedy minimálně těch, které se týkají výhradně jeho pracovní skupiny) a připočteme 20 účastníků vzdělávání manažerských dovedností dostáváme 125 účastníků vzdělávání. Po odečtení neúspěšných účastníků (nesplní docházku, nesloží závěrečné testy, nebudou se účastnit) ve výši 15% všech účastníků, činí hodnota indikátoru 106 osob - úspěšných absolventů, kteří obdrží osvědčení o absolvování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/inovovaných produkt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řednědobý plán, Katalog poskytovatelů, 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Koz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átor procesu KPP pro oblast ORP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ěÚ Vsetín, 8. patro, kancelář č.: 8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: 571 491 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r.kozel@mestovsetin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sto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árov 108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55 01 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58400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nto projekt je financován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vropským sociálním fondem prostřednictvím Operačního programu Lidské zdroje a zaměstnanost a Státního rozpočtu Č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sociální integrace s důrazem na rovné příležit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zvýšení zaměst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prevence sociálně patologických jev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cházení sociálnímu vylouč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írnění sociálního znevýhodnění specifických skupin obyv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hlubování spolupráce mezi zadavateli, uživateli a poskytovateli sociálních služeb, rozvoj a tvorba partner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 vše prostřednictv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plikace procesu komunitního plánování péče v obla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ce s rozšířenou působností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líčové aktivit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voření struktury pracovních skupin a jejich pravidelné setk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vzdělávacího cyklu pro účastníky procesu komunitního plá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acování podkladu pro vytvoření střednědobého plánu rozvoje sociálních služeb a péče Vsetí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střednědobého plánu péče a katalogu jejich poskytovatelů na Vsetín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interaktivního informačního systému sociálních služeb a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seminářů a konference k síťování sociálních služeb v rámci jednotlivých mikroregi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tvoření struktury pracovních skupin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jejich pravidelné setkávání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šíření činnosti stávajících PS a manažerského týmu na oblast ORP Vsetín – pravidelné setkávání jednou za měsí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Osoby se zdravotním postiž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Senioř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Ohrožené skup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Rod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S Etnické menš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P Vsetín – 3 mikroregi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rnolideč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alašsko – Horní Vsac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řední Vsetín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á PS – „Tým pro dohodu“ – setkání 2x za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rostové obcí ORP Vsetí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namní představitelé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vorba podoby sociální politiky na území ORP Vsetín pro nadcházející obdob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ace vzdělávacího cyklu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 účastníky procesu komunitního plán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štění vzdělávacích potřeb v rámci jednotlivých PS a vytvoření nabídky vzdělávání pro členy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ová skupina – poskytovatelé sociálních služeb a zároveň členové pracovních sku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vzdělávání pro pracovníky v sociálních službá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x za projekt pro každou PS (dvoudenní kurz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v oblasti manažerských doved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doucí pracovní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x za projekt (dvoudenní kur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 zdar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pracování podkladu pro vytvoření střednědobého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lánu rozvoje sociálních služeb a péče Vsetínsk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acování analýz a zapracování výstupů do návrhu komunitního plá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ýza uživatelů a poskytovate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tazníková šetření realizovaná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nkety s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Řízené rozhovory s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odnocení kvality uživate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ýza poskytovatelů – základ pro stavbu regionálního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OT analý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nagement péče individuálních potřeb klientů – zpracování map péč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pracování výsledků z krajského systému evaluace služeb – benchmark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tvoření střednědobého plánu péče,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talogu jejich poskytovatelů na Vsetínsku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vytvoření interaktivního informačního systému sociálních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užeb a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řednědobý komunitní plán péče (K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orba návrhu K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pomínkovací proces a veřejné projednávání K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válení  KPP v „Týmu pro dohodu“ pro oblast ORP Vsetí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vorba katalogu poskytovatelů péče v ORP Vse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 – Regionální informační systém komunitního plánování péče na Vsetín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formace o dostupné nabídce sociálních služ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bídkový a poptávkový systé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hodnocovací modul pro zpracování dat o poskytovatelích péče a poskytovaných službá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pojení na IS Zlínského kr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ace seminářů a konference k síťová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ciálních služeb v rámci jednotlivých mikroregi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skuze nad ideální sítí poskytovaných sociálních služeb a péče mezi zástupci mikroregio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semináře během projektu (Hornolidečsko, Střední Vsetínsko a Valašsko – Horní Vsac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závěrečná konference – prezentace nabyté praxe zejména pro ostatní města ve Zlínském kraji v rámci přenosu dobré pr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7938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Kozel Petr, Ing.</cp:lastModifiedBy>
  <dcterms:modified xsi:type="dcterms:W3CDTF">2013-07-04T10:18:24Z</dcterms:modified>
  <cp:revision>20</cp:revision>
  <dc:subject/>
  <dc:title>Snímek 1</dc:title>
</cp:coreProperties>
</file>