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EF61-4D43-4E7C-900D-119C3AE7EC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735C-6ACA-42E3-892C-0ACB41E79B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991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4053600"/>
            <a:ext cx="7991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405360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79360" y="405360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86160" y="206028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8320" y="206028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405360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86160" y="405360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8320" y="405360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405360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79360" y="405360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4053600"/>
            <a:ext cx="7991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hlavicka"/>
          <p:cNvPicPr/>
          <p:nvPr/>
        </p:nvPicPr>
        <p:blipFill>
          <a:blip r:embed="rId2"/>
          <a:stretch/>
        </p:blipFill>
        <p:spPr>
          <a:xfrm>
            <a:off x="0" y="0"/>
            <a:ext cx="9144000" cy="12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r-zlinsky.cz/kotliky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1484280"/>
            <a:ext cx="806436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6600"/>
                </a:solidFill>
                <a:latin typeface="Teuton Normal CE"/>
              </a:rPr>
              <a:t>Kotlíkové dotace 2021+</a:t>
            </a:r>
            <a:br>
              <a:rPr sz="2800"/>
            </a:br>
            <a:r>
              <a:rPr b="0" lang="cs-CZ" sz="2800" spc="-1" strike="noStrike">
                <a:solidFill>
                  <a:srgbClr val="ff6600"/>
                </a:solidFill>
                <a:latin typeface="Teuton Normal CE"/>
              </a:rPr>
              <a:t>13.10.2021 ve Valašských Kloboukách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06200" y="4579920"/>
            <a:ext cx="70945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euton Normal CE"/>
              </a:rPr>
              <a:t>Odbor Strategického rozvoje k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euton Normal CE"/>
              </a:rPr>
              <a:t>Oddělení absorpční k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Dotazníkový formulář – tzv. „Předžádost“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Vlastním (nebo jsem vyměnil/la po 1. 1. 2021) kotel na tuhá paliva s ručním přikládáním I. nebo II. emisní třídy ANO/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Spadám do podporované příjmové skupiny domácnosti ANO/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euton Normal CE"/>
              </a:rPr>
              <a:t>Informace o zájem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Jméno a příjmení (titu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Rok naroz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Telef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E-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euton Normal CE"/>
              </a:rPr>
              <a:t>Údaje o místě realiz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O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Ulice, č.p./č.ev./č.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PS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euton Normal CE"/>
              </a:rPr>
              <a:t>Zdroj, o který mám v rámci výměny záj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Vyberte zdroj, o který máte v rámci výměny záj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Žádost o kotlíkovou dotaci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Elektronický příjem žádostí začátkem roku 2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Seznam předpokládaných povinných přílo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doklad o kontrole technického stavu a provozu původního zdroje tepl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fotodokumentace stávajícího kotle napojeného na otopnou soustavu a komínové těles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doklady prokazující způsobilost k podpoře z pohledu výši příjmů za rok 202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písemný souhlas spoluvlastníků nemovitost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písemný souhlas druhého z manželů v rámci SJ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euton Normal CE"/>
              </a:rPr>
              <a:t>Žadatelé o novou kotlíkovou dotaci nebudou podléhat sank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Formy proplacení podpory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Ex post – dotace je proplacena po doložení uhrazených účetních dokla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Ex ante – předpokládá se  předfinancování, bude upřesněno po schválení závazných poky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Publicita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Teuton Normal CE"/>
              </a:rPr>
              <a:t>www.kr-zlinsky.cz/kotl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Dopis starostů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Letáky a informační brož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Magazín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Spot v rádiích Blaník, Orion a Hitrádio Z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T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Tiskové zprá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Tiskové k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Kontaktní údaje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euton Normal CE"/>
              </a:rPr>
              <a:t>Kotlíková linka: 577 043 411;  e-mail: kotliky@kr-zlinsk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euton Normal CE"/>
              </a:rPr>
              <a:t>Projektoví manažeř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Ing. Zuzana Chramostová: tel: 577 043 406; e-mail: zuzana.chramostova@kr-zlinsk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Ing. Barbora Kubernátová: tel: 577 043 843; e-mail: barbora.kubernatova@kr-zlinsk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Ing. Lenka Peterková: tel: 577 043 783; e-mail: lenka.peterkova@kr-zlinsk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Mgr. Eliška Staníčková: tel: 577 043 420; e-mail: eliska.stanickova@kr-zlinsky.cz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Ing. Ludmila Vaňková: tel: 577 043 833; e-mail: ludmila.vankova@kr-zlinsk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Ing. Soňa Zůbková: tel: 577 043 827; e-mail: sona.zubkova@kr-zlinsk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euton Normal CE"/>
              </a:rPr>
              <a:t>Adresa:</a:t>
            </a: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Krajský úřad Zlínského kraje, Odbor STR, třída Tomáše Bati 21,761 90 Zlín (9. pat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Kontaktní údaje SFŽP - NZÚ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euton Normal CE"/>
              </a:rPr>
              <a:t>Zelená linka pro zájemce o dotace: </a:t>
            </a: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800 260 500; </a:t>
            </a:r>
            <a:r>
              <a:rPr b="1" lang="cs-CZ" sz="1800" spc="-1" strike="noStrike">
                <a:solidFill>
                  <a:srgbClr val="000000"/>
                </a:solidFill>
                <a:latin typeface="Teuton Normal CE"/>
              </a:rPr>
              <a:t>e-mail: </a:t>
            </a: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dotazy@sfzp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Bezplatná linka je v provozu od pondělí do pátku </a:t>
            </a:r>
            <a:r>
              <a:rPr b="1" lang="cs-CZ" sz="1800" spc="-1" strike="noStrike">
                <a:solidFill>
                  <a:srgbClr val="000000"/>
                </a:solidFill>
                <a:latin typeface="Teuton Normal CE"/>
              </a:rPr>
              <a:t>od 7:30 do 16:00 hodin</a:t>
            </a: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 (jednotně ve všech krajíc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euton Normal CE"/>
              </a:rPr>
              <a:t>Projektoví manažeř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Blažková Dana: tel: 577 522 272, 724 593 113; e-mail: dana.blazkova@sfzp.c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Čech Lubomír: tel: 577 522 274, 725 047 401; e-mail: lubomir.cech@sfzp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Martinák Libor: tel: 577 522 277, 725 789 698; e-mail: libor.martinak@sfzp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Stískalová Jarmila: tel: 577 522 279, 724 885 683; e-mail: jarmila.stiskalova@sfzp.c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euton Normal CE"/>
              </a:rPr>
              <a:t>Adresa: </a:t>
            </a: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Budova 51, J. A. Bati 5645, 760 01 Z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1484280"/>
            <a:ext cx="806436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6600"/>
                </a:solidFill>
                <a:latin typeface="Teuton Normal CE"/>
              </a:rPr>
              <a:t>Děkuji za pozornost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06200" y="4579920"/>
            <a:ext cx="70945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ff6600"/>
                </a:solidFill>
                <a:latin typeface="Teuton Normal CE"/>
              </a:rPr>
              <a:t> </a:t>
            </a:r>
            <a:br>
              <a:rPr sz="36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 </a:t>
            </a: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1. Kotlíkové dotace 2021+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 2. Předmět podpory a výše dotace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 3. Příjemci dotace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 4. Seznam sledovaných příjmů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 5. Výjimky z povinnosti prokázat výši příjmů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 6. Způsobilé výdaje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 7. Poskytování kotlíkových dotací ZK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 8. Dotazníkový formulář -  tzv. „Předžádost“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 9. Žádost o kotlíkovou dotaci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10. Formy proplácení podpory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11. Publicita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12. Kontaktní údaje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13. Kontaktní údaje SFŽP - NZÚ</a:t>
            </a:r>
            <a:br>
              <a:rPr sz="3200"/>
            </a:br>
            <a:br>
              <a:rPr sz="3600"/>
            </a:b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Kotlíkové dotace 2021+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euton Normal CE"/>
              </a:rPr>
              <a:t>1.9. 2022 dle zákona o ochraně ovzduš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euton Normal CE"/>
              </a:rPr>
              <a:t>zákaz provozovat kotle nesplňující 3. nebo vyšší třídu dle ČSN EN 303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euton Normal CE"/>
              </a:rPr>
              <a:t>Cíl program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euton Normal CE"/>
              </a:rPr>
              <a:t>Snížit znečištění ovzduší výměnou lokálních zdrojů vytápění za nová ekologická topid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Způsobilost výdajů: od 1. ledna 20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Možnost požádat o dotace na výměnu pouze do 1. září 2022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Kotlíkové dotace pro domácnosti s nižšími příjmy - k rozdělení 5,5 mld. Kč z OP Ž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      </a:t>
            </a: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Žádosti administruje Zlínský k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B)   Dotace pro ostatní domácnosti - k rozdělení 8,5 mld. K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      </a:t>
            </a: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Žádosti administruje SFŽP – NZ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</a:t>
            </a: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Předmět podpory a výše dotace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Předmětem podpory je výměna starého kotle na tuhá paliva s ručním přikládáním 1. a 2. emisní třídy (nesplňující min. třídu 3 dle ČSN EN 303-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Výměnu starého kotle lze zrealizovat od 1.1.2021, výměny před 1.1.2021 nelze podpoř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Dotace je poskytována ve výši 95% způsobilých výdajů dílčího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71640" y="3645000"/>
          <a:ext cx="6095880" cy="22701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euton Normal CE"/>
                        </a:rPr>
                        <a:t>Podporované zdroje tep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euton Normal CE"/>
                        </a:rPr>
                        <a:t>Maximální výše dotace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euton Normal CE"/>
                        </a:rPr>
                        <a:t>Plynový kondenzační ko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euton Normal CE"/>
                        </a:rPr>
                        <a:t>1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euton Normal CE"/>
                        </a:rPr>
                        <a:t>Kotel na biomasu s ruční dodávkou paliva, včetně akumulační nádrž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euton Normal CE"/>
                        </a:rPr>
                        <a:t>13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euton Normal CE"/>
                        </a:rPr>
                        <a:t>Kotel na biomasu se samočinnou dodávkou pal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euton Normal CE"/>
                        </a:rPr>
                        <a:t>13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euton Normal CE"/>
                        </a:rPr>
                        <a:t>Tepelné čerpad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euton Normal CE"/>
                        </a:rPr>
                        <a:t>13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Příjemci dotace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euton Normal CE"/>
              </a:rPr>
              <a:t>Vlastník nebo spoluvlastník rodinného domu, bytové jednotky v bytovém domě, který v nemovitosti trvale bydlí, nebo trvale obývané stavby pro rodinnou rekreaci (dokládá se trvalý pobyt některého z členů domácnosti počínající 24 měsíců nebo více před podáním žádosti o podpor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euton Normal CE"/>
              </a:rPr>
              <a:t>Průměrný čistý příjem na jednoho člena domácnosti je maximáln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euton Normal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euton Normal CE"/>
              </a:rPr>
              <a:t>170 900 Kč za rok, posuzují se příjmy za rok 20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Seznam sledovaných příjmů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Příjmy, které jsou předmětem daně z příjmů fyzických osob podle zákona o dani z příjmů a nejsou od této daně osvobozeny - DPP/DPČ podléhají dani z příjmů (daňové přiznání/potvrzení o příjmech od zaměstnavate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Důchody - starobní, invalidní, sirotčí, vdovské a vdovecké (potvrzení o důcho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Dávky nemocenské (potvrzení ČSS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Peněžitá pomoc v mateřství  (potvrzení ČSS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Dávky státní sociální podpory - přídavek na dítě, rodičovský příspěvek, příspěvek na bydlení, porodné, pohřebné (potvrzení Úřad práce Č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Dávky v hmotné nouzi - Příspěvek na živobytí, doplatek na bydlení, mimořádná okamžitá pomoc (potvrzení Úřad práce Č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Podpora v nezaměstnanosti (potvrzení Úřad práce Č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Výjimky z povinnosti prokázat výši příjmů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Žadatel a všichni členové jeho domácnosti pobírají starobní důchod nebo invalidní důchod 3. stup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Žadatel je nezletilý nebo student denního studia do 26 let a je jediným vlastníkem rodinného domu (domácnost musí být složena z nezletilých nebo studentů), trvale obývané stavby pro rodinnou rekreaci nebo bytové jednotky v bytovém dom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Žadatel v období od 1. 1. 2020 do doby podání žádosti o podporu pobíral dávky v hmotné nouzi nebo příspěvek na bydlení (není nutné, aby dávky nebo příspěvek pobíral po celou dob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U nezletilých dětí a studentů do 26 let žijící ve společné domácnosti s žadatelem se počítá nulový pří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Domácnosti, kde žijí jen důchodci se starobním důchodem nebo invalidním důchodem 3. stupně, mají na dotaci nárok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Způsobilé výdaje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41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stavební práce, dodávky a služby spojené s realizací kotle na biomasu včetně nákladů na úpravu spalinových ce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stavební práce, dodávky a služby spojené s realizací tepelného čerpad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stavební práce, dodávky a služby spojené s realizací plynového kondenzačního kotle včetně nákladů na úpravu spalinových ce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stavební práce, dodávky a služby související s realizací nové otopné soustavy nebo úpravou stávající otopné soustavy, včetně dodávky a instalace akumulační nádoby nebo kombinovaného bojleru, pokud je toto doporučeno projektem, výrobcem nebo dodavatelem, vždy v návaznosti na realizaci nového zdroje tepla pro vytápěn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náklady na zkoušky nebo testy související s uváděním majetku do stavu způsobilého k užívání a k prokázání splnění technických parametrů, ovšem pouze v období do kolaudace (uvedení do trvalého provozu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náklady na projektovou dokumenta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Poskytování kotlíkových dotací ZK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Kotlíkové dotace budou propláceny prostřednictvím Operačního programu Životní prostředí v programovacím období 2021 – 20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Zlínský kraj prověřuje zájem potenciálních žadatelů o kotlíkovou dotaci formou </a:t>
            </a:r>
            <a:r>
              <a:rPr b="1" lang="cs-CZ" sz="1800" spc="-1" strike="noStrike">
                <a:solidFill>
                  <a:srgbClr val="000000"/>
                </a:solidFill>
                <a:latin typeface="Teuton Normal CE"/>
              </a:rPr>
              <a:t>dotazníkového formuláře neboli tzv. „předžádosti“, </a:t>
            </a: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která bude podkladem pro žádost Zlínského kraje na MŽ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Elektronický formulář od 11.10.2021 na stránkách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euton Normal CE"/>
                <a:hlinkClick r:id="rId1"/>
              </a:rPr>
              <a:t>www.kr-zlinsky.cz/kotliky</a:t>
            </a: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 , včetně mapy MAS ZK a kontaktů na projektové manažery (jméno, sídlo, telefon, e-m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9:59:38Z</dcterms:created>
  <dc:creator>zakutny</dc:creator>
  <dc:description/>
  <dc:language>en-US</dc:language>
  <cp:lastModifiedBy>Kubernátová Barbora</cp:lastModifiedBy>
  <cp:lastPrinted>2021-10-13T12:14:28Z</cp:lastPrinted>
  <dcterms:modified xsi:type="dcterms:W3CDTF">2021-10-13T12:26:24Z</dcterms:modified>
  <cp:revision>64</cp:revision>
  <dc:subject/>
  <dc:title>Snímek 1</dc:title>
</cp:coreProperties>
</file>