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6858000" cy="9144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2030400" y="746280"/>
            <a:ext cx="279720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5D4C-CF73-4CA1-AC08-5FA1EEAFA67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461C-61BE-4F40-9E40-F7D168C3903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030400" y="746280"/>
            <a:ext cx="2797200" cy="37288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19B3-9A11-4651-B194-8EB20B64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A213-5E4D-4CB0-9681-9AEE3141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B0CA-85D3-4838-B791-4AB5B71D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0F4D-0AC3-41DC-9883-940E56C6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F1F0-54E8-48CF-9054-907236F9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B243-150F-4D69-BE87-64D6FF62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19EA-121B-45C0-8990-E855EA4D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9A2B-4115-443B-8C48-69B971FD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19DE-B378-4EC2-BD3A-DE069BB0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019D-E38C-493D-89C3-50BBDA0A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C07A-816A-48DB-8266-4C59084C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8FAE-2E8C-4A25-8FCE-A6680879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4677-DFD6-4736-A40E-6E3B56D3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5487-A3B9-4C34-9183-B080E1C4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72B9-3A3C-44BF-9F4C-90BDBE72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9750-E42D-4E0F-BD18-E5C50080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D97C-69B2-4267-ADB7-69305C71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E9D0-1415-42FC-AC0A-335CF0B7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D26C-6EFA-4CDF-A93B-545285ED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BBC2-2742-48EC-9F4A-9255BBAC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FA69-9A96-481D-8909-AA88CC8B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D64D-85DF-45DD-80DE-AB049138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5156-7AAC-499D-A46C-29236281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9CED-4983-44CA-8C35-A3C960EC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6102-738B-4349-9500-C1391C8346CC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171360" cy="304812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343080" y="1930320"/>
            <a:ext cx="60577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3048120"/>
            <a:ext cx="171360" cy="304776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6095880"/>
            <a:ext cx="171360" cy="304812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171360" y="3852720"/>
            <a:ext cx="6458040" cy="268200"/>
            <a:chOff x="171360" y="3852720"/>
            <a:chExt cx="6458040" cy="268200"/>
          </a:xfrm>
        </p:grpSpPr>
        <p:sp>
          <p:nvSpPr>
            <p:cNvPr id="46" name="Rectangle 8"/>
            <p:cNvSpPr/>
            <p:nvPr/>
          </p:nvSpPr>
          <p:spPr>
            <a:xfrm>
              <a:off x="171360" y="3852720"/>
              <a:ext cx="2152800" cy="2682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2324160" y="3852720"/>
              <a:ext cx="2152800" cy="2682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4476960" y="3852720"/>
              <a:ext cx="2152440" cy="2682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44B3-C289-4CE2-B896-3458D43072E8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907920" y="179280"/>
            <a:ext cx="5257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27370b"/>
                </a:solidFill>
                <a:latin typeface="Times New Roman"/>
              </a:rPr>
              <a:t>Nohejbalový klub Poněto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27370b"/>
                </a:solidFill>
                <a:latin typeface="Times New Roman"/>
              </a:rPr>
              <a:t>ve spolupráci</a:t>
            </a:r>
            <a:r>
              <a:rPr b="0" i="1" lang="cs-CZ" sz="3200" spc="-1" strike="noStrike">
                <a:solidFill>
                  <a:srgbClr val="27370b"/>
                </a:solidFill>
                <a:latin typeface="Times New Roman"/>
              </a:rPr>
              <a:t> s</a:t>
            </a:r>
            <a:r>
              <a:rPr b="1" i="1" lang="cs-CZ" sz="3200" spc="-1" strike="noStrike">
                <a:solidFill>
                  <a:srgbClr val="27370b"/>
                </a:solidFill>
                <a:latin typeface="Times New Roman"/>
              </a:rPr>
              <a:t> SDH Ponětovice</a:t>
            </a:r>
            <a:r>
              <a:rPr b="1" i="1" lang="cs-CZ" sz="2800" spc="-1" strike="noStrike">
                <a:solidFill>
                  <a:srgbClr val="27370b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352800" y="4140360"/>
            <a:ext cx="64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7370b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27370b"/>
                </a:solidFill>
                <a:latin typeface="Times New Roman"/>
              </a:rPr>
              <a:t>Začátek sportovního klání ve </a:t>
            </a:r>
            <a:r>
              <a:rPr b="1" i="1" lang="cs-CZ" sz="2400" spc="-1" strike="noStrike">
                <a:solidFill>
                  <a:srgbClr val="27370b"/>
                </a:solidFill>
                <a:latin typeface="Times New Roman"/>
              </a:rPr>
              <a:t>14:00</a:t>
            </a:r>
            <a:r>
              <a:rPr b="1" i="1" lang="cs-CZ" sz="2400" spc="-1" strike="noStrike">
                <a:solidFill>
                  <a:srgbClr val="27370b"/>
                </a:solidFill>
                <a:latin typeface="Times New Roman"/>
              </a:rPr>
              <a:t> hod na hřišt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8"/>
          <p:cNvSpPr/>
          <p:nvPr/>
        </p:nvSpPr>
        <p:spPr>
          <a:xfrm>
            <a:off x="2852640" y="845964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23"/>
          <p:cNvSpPr/>
          <p:nvPr/>
        </p:nvSpPr>
        <p:spPr>
          <a:xfrm>
            <a:off x="1413000" y="2124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7370b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27370b"/>
                </a:solidFill>
                <a:latin typeface="Times New Roman"/>
              </a:rPr>
              <a:t>pořádá v sobotu 31. srpn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26"/>
          <p:cNvSpPr/>
          <p:nvPr/>
        </p:nvSpPr>
        <p:spPr>
          <a:xfrm>
            <a:off x="2479680" y="74232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27370b"/>
                </a:solidFill>
                <a:latin typeface="Times New Roman"/>
              </a:rPr>
              <a:t>Všichni jsou srdečně zváni. Občerstvení zajištěn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WordArt 34"/>
          <p:cNvSpPr txBox="1"/>
          <p:nvPr/>
        </p:nvSpPr>
        <p:spPr>
          <a:xfrm>
            <a:off x="765000" y="2916360"/>
            <a:ext cx="54864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ětský šestiboj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Text Box 41"/>
          <p:cNvSpPr/>
          <p:nvPr/>
        </p:nvSpPr>
        <p:spPr>
          <a:xfrm>
            <a:off x="2895480" y="43434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42"/>
          <p:cNvSpPr/>
          <p:nvPr/>
        </p:nvSpPr>
        <p:spPr>
          <a:xfrm>
            <a:off x="457200" y="4859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7370b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27370b"/>
                </a:solidFill>
                <a:latin typeface="Times New Roman"/>
              </a:rPr>
              <a:t>Pro děti od 3 let. Rozdělení na věkové kategori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43"/>
          <p:cNvSpPr/>
          <p:nvPr/>
        </p:nvSpPr>
        <p:spPr>
          <a:xfrm>
            <a:off x="2060640" y="5508720"/>
            <a:ext cx="4647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27370b"/>
                </a:solidFill>
                <a:latin typeface="Times New Roman"/>
              </a:rPr>
              <a:t>běh, skok do dálky, hod na cíl, hod  do dálky, jízda na kole/odrážedle, orientační běh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44"/>
          <p:cNvSpPr/>
          <p:nvPr/>
        </p:nvSpPr>
        <p:spPr>
          <a:xfrm>
            <a:off x="456120" y="548640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7370b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27370b"/>
                </a:solidFill>
                <a:latin typeface="Times New Roman"/>
              </a:rPr>
              <a:t>Disciplíny</a:t>
            </a:r>
            <a:r>
              <a:rPr b="0" lang="cs-CZ" sz="2400" spc="-1" strike="noStrike">
                <a:solidFill>
                  <a:srgbClr val="27370b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45"/>
          <p:cNvSpPr/>
          <p:nvPr/>
        </p:nvSpPr>
        <p:spPr>
          <a:xfrm>
            <a:off x="476280" y="673272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7370b"/>
                </a:solidFill>
                <a:latin typeface="Times New Roman"/>
              </a:rPr>
              <a:t>                    </a:t>
            </a:r>
            <a:r>
              <a:rPr b="0" i="1" lang="cs-CZ" sz="2400" spc="-1" strike="noStrike">
                <a:solidFill>
                  <a:srgbClr val="27370b"/>
                </a:solidFill>
                <a:latin typeface="Times New Roman"/>
              </a:rPr>
              <a:t>Kola, nebo odrážedla s sebou !!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Object 56"/>
          <p:cNvGraphicFramePr/>
          <p:nvPr/>
        </p:nvGraphicFramePr>
        <p:xfrm>
          <a:off x="449280" y="6672240"/>
          <a:ext cx="160020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280" y="6672240"/>
                    <a:ext cx="160020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5:07:11Z</dcterms:created>
  <dc:creator>Bobeš</dc:creator>
  <dc:description/>
  <dc:language>en-US</dc:language>
  <cp:lastModifiedBy>Katerina</cp:lastModifiedBy>
  <cp:lastPrinted>2024-08-26T16:45:52Z</cp:lastPrinted>
  <dcterms:modified xsi:type="dcterms:W3CDTF">2024-08-26T16:46:23Z</dcterms:modified>
  <cp:revision>37</cp:revision>
  <dc:subject/>
  <dc:title>Prezentace aplikace PowerPoint</dc:title>
</cp:coreProperties>
</file>