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6858000" cy="9144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2030400" y="746280"/>
            <a:ext cx="279720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AD7-FBE7-4009-9BCA-0644AD7CFC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BA6A-14FF-4909-B825-2E5679610E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030400" y="746280"/>
            <a:ext cx="279720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F83-13FE-47D3-BDEE-B5037A4C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47A-A966-43E1-9CEA-D5881D1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595-4F2D-4D4F-B00F-D6F84CBF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7C8-041E-4500-BE29-5CF4610F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1EB-E569-4464-8A6A-EDB023A7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2452-1DB0-4940-B3CE-609832B8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359-26CE-4ADB-9EDA-063746D6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FC6E-D903-413D-8E92-793A4FEF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3007-07DF-459B-807D-5D338F54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55BA-CB3D-466A-8142-2DC87C5D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473-22B0-494C-8742-E6B634C4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77D-1F1A-41EC-98CE-BB8E682E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7C7-CD2F-4CB3-A4EC-3EA2AA0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1EA1-23A2-4097-B888-A51DB2E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370B-1F44-4438-8ED0-9BA4259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97AF-D4A4-4FD2-8692-6ACCDF9E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971-AAD4-4E1F-9393-83134EF1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309-293C-4098-B227-22CD8BE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4B9-8713-4CFC-A3CF-728AA10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90D-5FC2-44B9-B71B-E6FC71A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826-041B-4A75-98AD-993B8DB1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325-6D98-485C-900D-27DF290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F5E-4E22-4135-84C5-D7E05A67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D94-5949-4CAA-BC13-F85E6C61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E9A2-A2A8-4C3D-AE55-C993FE9CCFEB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171360" y="3852720"/>
            <a:ext cx="6458040" cy="268200"/>
            <a:chOff x="171360" y="3852720"/>
            <a:chExt cx="6458040" cy="268200"/>
          </a:xfrm>
        </p:grpSpPr>
        <p:sp>
          <p:nvSpPr>
            <p:cNvPr id="46" name="Rectangle 8"/>
            <p:cNvSpPr/>
            <p:nvPr/>
          </p:nvSpPr>
          <p:spPr>
            <a:xfrm>
              <a:off x="171360" y="3852720"/>
              <a:ext cx="2152800" cy="2682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324160" y="3852720"/>
              <a:ext cx="2152800" cy="268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476960" y="3852720"/>
              <a:ext cx="2152440" cy="2682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CC05-B901-4664-9727-306DA601CFB1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907920" y="179280"/>
            <a:ext cx="5257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7370b"/>
                </a:solidFill>
                <a:latin typeface="Times New Roman"/>
              </a:rPr>
              <a:t>Nohejbalový klub Poněto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27370b"/>
                </a:solidFill>
                <a:latin typeface="Times New Roman"/>
              </a:rPr>
              <a:t>ve spolupráci</a:t>
            </a:r>
            <a:r>
              <a:rPr b="0" i="1" lang="cs-CZ" sz="3200" spc="-1" strike="noStrike">
                <a:solidFill>
                  <a:srgbClr val="27370b"/>
                </a:solidFill>
                <a:latin typeface="Times New Roman"/>
              </a:rPr>
              <a:t> s</a:t>
            </a:r>
            <a:r>
              <a:rPr b="1" i="1" lang="cs-CZ" sz="3200" spc="-1" strike="noStrike">
                <a:solidFill>
                  <a:srgbClr val="27370b"/>
                </a:solidFill>
                <a:latin typeface="Times New Roman"/>
              </a:rPr>
              <a:t> SDH Ponětovice</a:t>
            </a:r>
            <a:r>
              <a:rPr b="1" i="1" lang="cs-CZ" sz="2800" spc="-1" strike="noStrike">
                <a:solidFill>
                  <a:srgbClr val="27370b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52800" y="414036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Začátek sportovního klání ve 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14:00</a:t>
            </a: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 hod na hřiš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2852640" y="845964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1413000" y="2124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27370b"/>
                </a:solidFill>
                <a:latin typeface="Times New Roman"/>
              </a:rPr>
              <a:t>pořádá v sobotu 31. srp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2479680" y="7423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27370b"/>
                </a:solidFill>
                <a:latin typeface="Times New Roman"/>
              </a:rPr>
              <a:t>Všichni jsou srdečně zváni. Občerstvení zajiště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WordArt 34"/>
          <p:cNvSpPr txBox="1"/>
          <p:nvPr/>
        </p:nvSpPr>
        <p:spPr>
          <a:xfrm>
            <a:off x="765000" y="2916360"/>
            <a:ext cx="54864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ětský šestiboj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895480" y="43434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457200" y="4859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Pro děti od 3 let. Rozdělení na věkové kategori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2060640" y="5508720"/>
            <a:ext cx="4647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běh, skok do dálky, hod na cíl, hod  do dálky, jízda na kole/odrážedle, orientační bě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456120" y="548640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Disciplíny</a:t>
            </a: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476280" y="6732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7370b"/>
                </a:solidFill>
                <a:latin typeface="Times New Roman"/>
              </a:rPr>
              <a:t>                    </a:t>
            </a:r>
            <a:r>
              <a:rPr b="0" i="1" lang="cs-CZ" sz="2400" spc="-1" strike="noStrike">
                <a:solidFill>
                  <a:srgbClr val="27370b"/>
                </a:solidFill>
                <a:latin typeface="Times New Roman"/>
              </a:rPr>
              <a:t>Kola, nebo odrážedla s sebou 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56"/>
          <p:cNvGraphicFramePr/>
          <p:nvPr/>
        </p:nvGraphicFramePr>
        <p:xfrm>
          <a:off x="449280" y="6672240"/>
          <a:ext cx="160020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6672240"/>
                    <a:ext cx="16002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5:07:11Z</dcterms:created>
  <dc:creator>Bobeš</dc:creator>
  <dc:description/>
  <dc:language>en-US</dc:language>
  <cp:lastModifiedBy>Katerina</cp:lastModifiedBy>
  <cp:lastPrinted>2024-08-26T16:45:52Z</cp:lastPrinted>
  <dcterms:modified xsi:type="dcterms:W3CDTF">2024-08-26T16:46:23Z</dcterms:modified>
  <cp:revision>37</cp:revision>
  <dc:subject/>
  <dc:title>Prezentace aplikace PowerPoint</dc:title>
</cp:coreProperties>
</file>